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0.wmf" ContentType="image/x-wmf"/>
  <Override PartName="/ppt/media/image28.png" ContentType="image/png"/>
  <Override PartName="/ppt/media/image49.wmf" ContentType="image/x-wmf"/>
  <Override PartName="/ppt/media/image11.png" ContentType="image/png"/>
  <Override PartName="/ppt/media/image10.wmf" ContentType="image/x-wmf"/>
  <Override PartName="/ppt/media/image47.wmf" ContentType="image/x-wmf"/>
  <Override PartName="/ppt/media/image2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51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62.wmf" ContentType="image/x-wmf"/>
  <Override PartName="/ppt/media/image22.png" ContentType="image/png"/>
  <Override PartName="/ppt/media/image4.wmf" ContentType="image/x-wmf"/>
  <Override PartName="/ppt/media/image59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.wmf" ContentType="image/x-wmf"/>
  <Override PartName="/ppt/media/image58.png" ContentType="image/png"/>
  <Override PartName="/ppt/media/image21.png" ContentType="image/png"/>
  <Override PartName="/ppt/media/image23.png" ContentType="image/png"/>
  <Override PartName="/ppt/media/image36.png" ContentType="image/png"/>
  <Override PartName="/ppt/media/image20.png" ContentType="image/png"/>
  <Override PartName="/ppt/media/image24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8.png" ContentType="image/png"/>
  <Override PartName="/ppt/media/image12.png" ContentType="image/png"/>
  <Override PartName="/ppt/media/image52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19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30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61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7D0D-83D4-41E7-9D9A-256779BC7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F79A68-9D1E-45C4-9B1D-97994F500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8AEE5F-D53E-49FC-8D61-BAD8289D3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898DB3-43B0-4474-9F2D-90FF7C5FC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5855-CCF7-48E3-B2DA-D4D609008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51600C-4AE8-4019-9685-BECCA380A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68C807-DD7E-4CBE-8BDD-09D105FA4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220ACA-E720-4169-BB8A-70CF130F7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7A3B2E-B532-4C32-90A6-722EB533C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9ABD55-7884-46DC-8A80-008AB0273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2E2415-3886-49F1-863B-6FC2E33C8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5094C5-D8B0-47B5-AA8A-8A1EA368D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082ABC-1DFE-472A-8ADB-0E62365F1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E31B11-B33E-4177-82E9-53E45FAB8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63C76D-73E6-4C01-9FAE-9DB36013A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3EB11F-10A7-47C8-86E3-724DC74C5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A53854-31F1-4631-961F-002E9A6AE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F64059-0B5B-4F7D-BC58-463504C78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133C44-B674-4F8B-9715-F7E1BBC6D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B1A06D-6D4D-40E2-A82B-7BFC95033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61A393-A614-46F7-A9DC-0811F5D39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636D0F-F21E-4469-8E7A-CE0092E81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EC002B-4BE9-42C7-BAE4-D5E17E7CF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36D2-61E1-4A9F-8D4E-8A058D8E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B16AC5-8931-4E8C-845E-1582E8B36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08C195-6012-4D52-94B8-46AEB2944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F7A964-F7BA-411E-8CCB-B3A0E166A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7999BB-503D-401A-991B-868626601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F766AD-1A09-4F92-AE1D-241934C97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0548B2-7D40-4A1D-BCC9-B96BDE4DF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93E94E-7154-401C-9B7B-8291577F2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792BE8-68EC-48F7-9EEE-FD432F79D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845589-9B58-49C9-A4BA-72537B378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F8F9-F50C-43A1-8995-DE2B89765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2D20CB-A4B2-4B45-A831-D8E5F682C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1502-0408-4D74-8CA8-6733F3AD1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8676-1FDE-41D4-BEFB-3517B4742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4425E3-0B33-4B2F-839A-AA99552C4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0F14D6-09A5-4FAC-BD0F-F9E338EBD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D3B-7B4B-4B8A-87C9-56A9FCB4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DB2-D28C-48D3-82A1-694368B0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995-0BCA-4880-A695-683C207F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93E-D3A7-4F74-BF83-7C59867B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3E3DB-8B4F-4C4C-8069-0043340EDC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1EF31-2FC4-4FA8-B45C-97739DDB4A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41FBD-852E-4F72-8FFB-BB0372324C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ACE3A-86FD-4F80-8A38-EF85E71BCB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0C078-BB93-4BD1-B40F-A4DF45D81E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A9B8C-E939-4CA8-9A6F-633DC0C4CD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44CE6-17BB-4816-AC02-BB3C86F28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C64-87FC-4EA8-BC86-E2FFE8C5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1EE4E-27F9-4115-8D71-9829B28EFC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790D8-27D8-411C-9835-0DF37434EC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5C08E-9018-4D53-9F42-EBA83532D0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3939A-98B5-428E-ADF6-826BA8FB78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1C2E9-0417-4DAD-AF04-3A0BB32051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24A-824F-440D-AE91-27388161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A07-05E0-4866-B9BA-0B310313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25E-301D-42DD-B859-1AD797D4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FCE-3033-466C-8583-7E36BC07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6D5-979B-4936-9300-04D116BB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988-F172-48C9-9A91-7F7FABD9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295-5840-41C9-8B0F-4DB9199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3E89-D876-48A2-A958-A23138065A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1F27-AD84-486F-A345-9BEAF79DDC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1734-3BD5-4247-A708-7914CD3FBA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ur parame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length, 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twist 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offset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joint ang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trix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function of only a single variabl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 turns out that three of the above four quantities are constant for a given link, while the fourth parameter is the joint vari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C91-799C-4ED3-A721-2559F83BD6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oint, a joint variable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joints are represented by the z-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revolute, the z-axis is in the direction of rotation as followed by the right hand r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prismatic, the z-axis for the joint is along the direction of the liner m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43E8-FDB9-412B-8F52-9D5877B717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49849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bine all transformations, from the first joint (base) to the next until we get to the last joint, to get the robot’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tal transformation matri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From     , the position and orientation of the tool frame are calcul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5620-AE34-4BBC-B647-8AA7F653F97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8"/>
          <p:cNvGraphicFramePr/>
          <p:nvPr/>
        </p:nvGraphicFramePr>
        <p:xfrm>
          <a:off x="1676520" y="3657600"/>
          <a:ext cx="30765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57600"/>
                    <a:ext cx="3076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76520" y="4518000"/>
          <a:ext cx="38088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18000"/>
                    <a:ext cx="380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7FBE-E2C6-4BFF-8C84-987DF63320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C:\Documents and Settings\Administrator\Desktop\untitled.bmp"/>
          <p:cNvPicPr/>
          <p:nvPr/>
        </p:nvPicPr>
        <p:blipFill>
          <a:blip r:embed="rId1"/>
          <a:stretch/>
        </p:blipFill>
        <p:spPr>
          <a:xfrm>
            <a:off x="457200" y="1514520"/>
            <a:ext cx="8448840" cy="534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AA5E-F1FD-4CA3-A064-721AE4764C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87105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3AED-0EF1-4FFE-8914-A809EEAAFF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Administrator\Desktop\untitled.bmp"/>
          <p:cNvPicPr/>
          <p:nvPr/>
        </p:nvPicPr>
        <p:blipFill>
          <a:blip r:embed="rId2"/>
          <a:stretch/>
        </p:blipFill>
        <p:spPr>
          <a:xfrm>
            <a:off x="304920" y="1523880"/>
            <a:ext cx="8629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517F-78D8-49D8-AD2F-9D2B8A5028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866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9"/>
          <p:cNvGraphicFramePr/>
          <p:nvPr/>
        </p:nvGraphicFramePr>
        <p:xfrm>
          <a:off x="2133720" y="2895480"/>
          <a:ext cx="414468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89548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380880" y="4952880"/>
            <a:ext cx="813456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5"/>
          <a:stretch/>
        </p:blipFill>
        <p:spPr>
          <a:xfrm>
            <a:off x="457200" y="1295280"/>
            <a:ext cx="83059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7588-84BB-4E1A-850C-7EE3913A83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9"/>
          <p:cNvSpPr/>
          <p:nvPr/>
        </p:nvSpPr>
        <p:spPr>
          <a:xfrm>
            <a:off x="838080" y="1925640"/>
            <a:ext cx="441972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fram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Z ‘s are normal to th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9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498920" cy="373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0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94A2-205B-49EC-A241-64D455509E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829120" cy="1809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F4D5-3219-43A4-8CED-9BD9F65AB5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6381720" cy="4424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0" y="4038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and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and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B107-23B8-4509-9EA7-98A4FB32F9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7BD3-E656-40B2-8DC5-AE11267178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1752480"/>
            <a:ext cx="3143160" cy="3962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200400" y="3276720"/>
            <a:ext cx="57150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A8B5-9B23-4919-A454-09B3B8CFF2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1486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5E99-FBC7-4792-AD73-1FD90B6347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71880" cy="4905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4387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97B9-AA20-4751-883C-01F0246115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3717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A1C1-B867-4311-90F0-668FF374E2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00240" y="2728800"/>
            <a:ext cx="49435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348A-124D-4B10-A7E4-EB5EFD5B6C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71600" y="2263680"/>
            <a:ext cx="55627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6DC0-AE1C-4436-8CFD-50F2DAA9DB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105440" cy="3284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36097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3448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0C32-495C-4A8F-A849-630F548435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581200" y="1849320"/>
            <a:ext cx="39816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80B2-10DE-4536-989C-E05B232AB7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848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C27A-2EE0-4643-9C0F-07E64506C2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106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homogeneous transformatio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ating the tool frame to the fixed base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86BB-DDF4-492C-B35D-F55BF882F7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3676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A675-693F-443C-9206-C091D82645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350208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Object 5"/>
          <p:cNvGraphicFramePr/>
          <p:nvPr/>
        </p:nvGraphicFramePr>
        <p:xfrm>
          <a:off x="819000" y="3886200"/>
          <a:ext cx="62892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3886200"/>
                    <a:ext cx="628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5524560" y="3962520"/>
          <a:ext cx="49536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24560" y="3962520"/>
                    <a:ext cx="495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by example 2, and        given by example  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DD5C-7C25-4482-9FBA-B258A967B9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458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CA48-3B51-48DE-B9B8-6D0D7799EB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063880" y="1676520"/>
            <a:ext cx="4432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ABA0-EFF3-41A2-B41D-7FF76A92C7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ward kinema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 position of the end-effector: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orientation {Roll, Pitch, Yaw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32000" y="3886200"/>
          <a:ext cx="53737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886200"/>
                    <a:ext cx="53737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l Pitch Y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801320" y="2048040"/>
            <a:ext cx="4035600" cy="3517200"/>
            <a:chOff x="4801320" y="2048040"/>
            <a:chExt cx="4035600" cy="3517200"/>
          </a:xfrm>
        </p:grpSpPr>
        <p:grpSp>
          <p:nvGrpSpPr>
            <p:cNvPr id="239" name="Group 4"/>
            <p:cNvGrpSpPr/>
            <p:nvPr/>
          </p:nvGrpSpPr>
          <p:grpSpPr>
            <a:xfrm>
              <a:off x="5332320" y="2527200"/>
              <a:ext cx="3200400" cy="2743200"/>
              <a:chOff x="5332320" y="2527200"/>
              <a:chExt cx="3200400" cy="2743200"/>
            </a:xfrm>
          </p:grpSpPr>
          <p:sp>
            <p:nvSpPr>
              <p:cNvPr id="240" name="Line 5"/>
              <p:cNvSpPr/>
              <p:nvPr/>
            </p:nvSpPr>
            <p:spPr>
              <a:xfrm flipV="1">
                <a:off x="6703920" y="252720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6"/>
              <p:cNvSpPr/>
              <p:nvPr/>
            </p:nvSpPr>
            <p:spPr>
              <a:xfrm flipH="1">
                <a:off x="5332320" y="435600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6703920" y="435600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6399000" y="306072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 rot="16336800">
                <a:off x="5724360" y="466164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 rot="5753400">
                <a:off x="7395840" y="418140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Text Box 11"/>
            <p:cNvSpPr/>
            <p:nvPr/>
          </p:nvSpPr>
          <p:spPr>
            <a:xfrm>
              <a:off x="480132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>
              <a:off x="8436600" y="411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6442200" y="2048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9" name="Object 1024"/>
            <p:cNvGraphicFramePr/>
            <p:nvPr/>
          </p:nvGraphicFramePr>
          <p:xfrm>
            <a:off x="5402160" y="4324680"/>
            <a:ext cx="380880" cy="41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2160" y="4324680"/>
                      <a:ext cx="380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1" name="Object 1025"/>
                <p:cNvSpPr txBox="1"/>
                <p:nvPr/>
              </p:nvSpPr>
              <p:spPr>
                <a:xfrm>
                  <a:off x="7916760" y="454212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Object 1026"/>
                <p:cNvSpPr txBox="1"/>
                <p:nvPr/>
              </p:nvSpPr>
              <p:spPr>
                <a:xfrm>
                  <a:off x="6870600" y="255744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3" name="Object 15"/>
          <p:cNvGraphicFramePr/>
          <p:nvPr/>
        </p:nvGraphicFramePr>
        <p:xfrm>
          <a:off x="457200" y="2514600"/>
          <a:ext cx="5257800" cy="14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14600"/>
                    <a:ext cx="52578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9ED213-03AB-4724-9164-450FD1323D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16"/>
          <p:cNvGraphicFramePr/>
          <p:nvPr/>
        </p:nvGraphicFramePr>
        <p:xfrm>
          <a:off x="228600" y="4105440"/>
          <a:ext cx="4495680" cy="23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105440"/>
                    <a:ext cx="44956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D865-0492-4C8F-A531-E589C55325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calcul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the matrix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 w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f the matr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Object 2"/>
          <p:cNvGraphicFramePr/>
          <p:nvPr/>
        </p:nvGraphicFramePr>
        <p:xfrm>
          <a:off x="4238640" y="1600200"/>
          <a:ext cx="193356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8640" y="1600200"/>
                    <a:ext cx="1933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3"/>
          <p:cNvGraphicFramePr/>
          <p:nvPr/>
        </p:nvGraphicFramePr>
        <p:xfrm>
          <a:off x="3048120" y="3429000"/>
          <a:ext cx="4762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429000"/>
                    <a:ext cx="4762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6"/>
          <p:cNvGraphicFramePr/>
          <p:nvPr/>
        </p:nvGraphicFramePr>
        <p:xfrm>
          <a:off x="533520" y="4343400"/>
          <a:ext cx="58672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343400"/>
                    <a:ext cx="5867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5"/>
          <p:cNvGraphicFramePr/>
          <p:nvPr/>
        </p:nvGraphicFramePr>
        <p:xfrm>
          <a:off x="851040" y="5664240"/>
          <a:ext cx="13586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1040" y="5664240"/>
                    <a:ext cx="1358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6"/>
          <p:cNvGraphicFramePr/>
          <p:nvPr/>
        </p:nvGraphicFramePr>
        <p:xfrm>
          <a:off x="2514600" y="5638680"/>
          <a:ext cx="14079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5638680"/>
                    <a:ext cx="1407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7"/>
          <p:cNvGraphicFramePr/>
          <p:nvPr/>
        </p:nvGraphicFramePr>
        <p:xfrm>
          <a:off x="4184640" y="5638680"/>
          <a:ext cx="1454040" cy="47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84640" y="5638680"/>
                    <a:ext cx="1454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2"/>
          <p:cNvGraphicFramePr/>
          <p:nvPr/>
        </p:nvGraphicFramePr>
        <p:xfrm>
          <a:off x="1130400" y="6242040"/>
          <a:ext cx="1195200" cy="31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0400" y="6242040"/>
                    <a:ext cx="11952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3"/>
          <p:cNvGraphicFramePr/>
          <p:nvPr/>
        </p:nvGraphicFramePr>
        <p:xfrm>
          <a:off x="2590920" y="6095880"/>
          <a:ext cx="1295280" cy="542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6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6095880"/>
                    <a:ext cx="1295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4"/>
          <p:cNvGraphicFramePr/>
          <p:nvPr/>
        </p:nvGraphicFramePr>
        <p:xfrm>
          <a:off x="4114800" y="6019920"/>
          <a:ext cx="1549440" cy="676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8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6019920"/>
                    <a:ext cx="15494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5"/>
          <p:cNvGraphicFramePr/>
          <p:nvPr/>
        </p:nvGraphicFramePr>
        <p:xfrm>
          <a:off x="5962680" y="2577960"/>
          <a:ext cx="1428840" cy="115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0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62680" y="2577960"/>
                    <a:ext cx="142884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:RR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3118-D1E0-4826-98F8-9B63E9555B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7200" y="220968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447920" y="2286000"/>
          <a:ext cx="4952880" cy="2819520"/>
        </p:xfrm>
        <a:graphic>
          <a:graphicData uri="http://schemas.openxmlformats.org/drawingml/2006/table">
            <a:tbl>
              <a:tblPr/>
              <a:tblGrid>
                <a:gridCol w="1031760"/>
                <a:gridCol w="939960"/>
                <a:gridCol w="1131840"/>
                <a:gridCol w="812520"/>
                <a:gridCol w="1036800"/>
              </a:tblGrid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Spong book: page 1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2, 3.3, 3.4, 3.6 , 3.7, 3.8, 3.9, 3.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lass on next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E40F-7895-4425-9F2B-6FCE3E1CEC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2643-909A-4CEC-9BB1-8275EC2BA9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009880" cy="1380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7" descr=""/>
          <p:cNvPicPr/>
          <p:nvPr/>
        </p:nvPicPr>
        <p:blipFill>
          <a:blip r:embed="rId2"/>
          <a:stretch/>
        </p:blipFill>
        <p:spPr>
          <a:xfrm>
            <a:off x="457200" y="1062000"/>
            <a:ext cx="7467480" cy="25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16"/>
          <p:cNvGraphicFramePr/>
          <p:nvPr/>
        </p:nvGraphicFramePr>
        <p:xfrm>
          <a:off x="1855800" y="4038480"/>
          <a:ext cx="294336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5800" y="4038480"/>
                    <a:ext cx="29433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Rectangle 3"/>
          <p:cNvSpPr/>
          <p:nvPr/>
        </p:nvSpPr>
        <p:spPr>
          <a:xfrm>
            <a:off x="457200" y="40384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                                    are  Roll, Pitch, and Y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present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kinema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927000" y="2347920"/>
          <a:ext cx="198756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347920"/>
                    <a:ext cx="198756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5"/>
          <p:cNvGraphicFramePr/>
          <p:nvPr/>
        </p:nvGraphicFramePr>
        <p:xfrm>
          <a:off x="4927680" y="2903400"/>
          <a:ext cx="30970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7680" y="2903400"/>
                    <a:ext cx="30970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Slide Number Placeholder 5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64F3-05F2-4660-8939-70499A0B8E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800960" y="160020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ry simple way of modeling robot links and joints that can be used for any kind of robot config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echnique has became the standard way of representing robots and modeling their mo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9E2B-7465-46E8-81E6-23FE3064CB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s: we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+1 links. Link 0 is the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oints are numbered from 1 to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i connects link i − 1 to link 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{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ttached to joi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+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{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attached to the robot base (inertial frame) “joint 1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8F03-7BE8-4360-8153-447601ADC7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a reference frame to each joi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-axis and z-axis). The D-H representation does not use the y-axis at 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omogeneous transform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represented as a product of four basic transform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B4D0-4B5F-4876-ACC1-FCF22349D2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D55D-1EE5-49EC-AB85-998632384E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rix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resenting the four movements is found by: four m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7"/>
          <p:cNvGraphicFramePr/>
          <p:nvPr/>
        </p:nvGraphicFramePr>
        <p:xfrm>
          <a:off x="1066680" y="3962520"/>
          <a:ext cx="548640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962520"/>
                    <a:ext cx="54864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9"/>
          <p:cNvGraphicFramePr/>
          <p:nvPr/>
        </p:nvGraphicFramePr>
        <p:xfrm>
          <a:off x="349200" y="2438280"/>
          <a:ext cx="503244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0" y="2438280"/>
                    <a:ext cx="503244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C329-2D05-46FD-8468-740B8C0303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1447920" y="4800600"/>
          <a:ext cx="4144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80060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685800" y="1447920"/>
                <a:ext cx="39304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4648320" y="144792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523880" y="1829880"/>
            <a:ext cx="6096240" cy="406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762120" y="3048120"/>
                <a:ext cx="7048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nk and joint parameter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leng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: the offset distance between the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nd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es along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offset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he distance from the origin of frame i−1 to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o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E931-8AED-4CA5-B7FB-D0CAE8BC4D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1944-D6A2-4249-A526-797E114CF7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0880" y="1414440"/>
            <a:ext cx="3581640" cy="29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233496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33520" y="4179960"/>
            <a:ext cx="815328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k tw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:the angle from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 to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 about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sense for α is determined from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right-hand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int angle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ngle between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es about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</cp:lastModifiedBy>
  <dcterms:modified xsi:type="dcterms:W3CDTF">2009-09-15T01:45:51Z</dcterms:modified>
  <cp:revision>174</cp:revision>
  <dc:subject/>
  <dc:title>Robot Kinematics II </dc:title>
</cp:coreProperties>
</file>